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BECB-CD48-4208-8072-6F488BA0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312-9BAF-457E-A4BC-E22CD395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AB36-2A96-4D69-A45B-500274F0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85C-8C3C-4F2A-8AA8-0D198CDF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092A-DB0A-443A-8B04-BE3BDC79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D329-262A-44DD-B32B-8F8C57FD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01A-77CE-48AF-BB66-AF67C72E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3C0-52BF-4981-8CCC-F6189843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6EE-BF79-42DA-86EA-9880A8A7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5A9C-B5D2-4F93-BFC3-A2282534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431C-2290-4D75-9C31-8F8E3DFF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57B3-72AC-405D-BA37-7493F45B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58CC-90DB-4816-97C3-550390E98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609480"/>
            <a:ext cx="7696080" cy="8610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3366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The Pig and the Meat</a:t>
            </a:r>
            <a:endParaRPr b="0" lang="en-US" sz="1800" spc="1" strike="noStrike">
              <a:ln w="50760">
                <a:solidFill>
                  <a:srgbClr val="003366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45720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les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/9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5486400"/>
            <a:ext cx="21333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man ran into a phone pole he thought but it was a pole but it was Jake and Dann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 flipH="1" rot="16200000">
            <a:off x="-298080" y="3422520"/>
            <a:ext cx="4647960" cy="1612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666880" y="5029200"/>
            <a:ext cx="1524240" cy="1374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267080" y="5105520"/>
            <a:ext cx="46483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nny and Jake eat Old man My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 flipH="1" rot="19949400">
            <a:off x="304200" y="4800240"/>
            <a:ext cx="3200400" cy="1111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 rot="304800">
            <a:off x="5410080" y="3047760"/>
            <a:ext cx="3505320" cy="1176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581280" y="3048120"/>
            <a:ext cx="1524240" cy="13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Danny and Jake lived happily ever aft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 flipH="1" rot="19939800">
            <a:off x="457200" y="4876560"/>
            <a:ext cx="3200400" cy="1110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1713600">
            <a:off x="5029200" y="4800240"/>
            <a:ext cx="312408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Mor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What others take may get others mad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ny (allig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se (Vultur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my (P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e (allig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les (Old Man Farm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4648320"/>
            <a:ext cx="1712880" cy="1941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38280" y="5029200"/>
            <a:ext cx="2971800" cy="1581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791320" y="5029200"/>
            <a:ext cx="2819160" cy="1498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724280" y="1676520"/>
            <a:ext cx="143208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629400" y="457200"/>
            <a:ext cx="2063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once was a pig named Jimmy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2863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mmy kept stealing the alligators food which was meat and the alligators roa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286380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19320" y="4038480"/>
            <a:ext cx="2133360" cy="1581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029200" y="1905120"/>
            <a:ext cx="4114800" cy="1498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952880" y="4191120"/>
            <a:ext cx="4191120" cy="1498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172200" y="3809880"/>
            <a:ext cx="3808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5400000">
            <a:off x="4117320" y="3806640"/>
            <a:ext cx="106056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 rot="5400000">
            <a:off x="3279600" y="3806640"/>
            <a:ext cx="106020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 rot="5400000">
            <a:off x="4270320" y="2739600"/>
            <a:ext cx="106056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e and Danny the alligator brothers cased Jim pig away everyday and Jim pig oink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209680" y="2666880"/>
            <a:ext cx="171792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514600" y="4038480"/>
            <a:ext cx="1066680" cy="790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410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897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se the 1 eye vulture saw Jim pig and at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16200000">
            <a:off x="3139920" y="2346120"/>
            <a:ext cx="1720800" cy="2667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410080" y="990720"/>
            <a:ext cx="2063880" cy="3962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16200000">
            <a:off x="3900240" y="3185640"/>
            <a:ext cx="10666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les the old man farmer went looking for Jim pig one 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35049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ut Old man was blind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8120" y="2209680"/>
            <a:ext cx="35049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6:31:58Z</dcterms:created>
  <dc:creator>install</dc:creator>
  <dc:description/>
  <dc:language>en-US</dc:language>
  <cp:lastModifiedBy>install</cp:lastModifiedBy>
  <dcterms:modified xsi:type="dcterms:W3CDTF">2010-12-17T16:53:18Z</dcterms:modified>
  <cp:revision>10</cp:revision>
  <dc:subject/>
  <dc:title>Slide 1</dc:title>
</cp:coreProperties>
</file>